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1BC-10C9-4D83-8290-C4ED6491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7D5-5717-4FDC-8878-A5185E27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E79-A220-4BDB-AEFF-F259D14B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E2F8-916E-4D04-BB01-E713CC49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49BA-0E8B-4B36-9C5E-74F6D7A3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241-03C0-4F02-85DA-7469B3C1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069-6337-49BE-8DA6-F24E2BD7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F6AA-1753-4103-9801-772F4CBA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2ACF-3055-44B2-9BB5-DCF4A2E5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2763-0C79-4ED1-8857-A15238B2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B79E-2194-4479-BDC2-6E038BE7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D399-5248-4990-8742-C1966E96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81D3-CCF2-4871-8C31-B66696EEC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estiopolis.com/economia/importancia-de-la-identidad-personal-y-social.htm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c090"/>
                </a:solidFill>
                <a:latin typeface="Comic Sans MS"/>
              </a:rPr>
              <a:t>AUTORRETRA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p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tipo de arte es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éner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De qué género es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cripció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colores ves en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Cómo es ____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hacen las personas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inió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opinas de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da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uáles son las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dicacio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e46c0a"/>
                </a:solidFill>
                <a:latin typeface="Comic Sans MS"/>
              </a:rPr>
              <a:t>identidad person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uáles son las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dicacio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e46c0a"/>
                </a:solidFill>
                <a:latin typeface="Comic Sans MS"/>
              </a:rPr>
              <a:t>identificación soc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joann\Pictures\Microsoft Clip Organizer\j0441428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53280" y="594360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41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6c0a"/>
                </a:solidFill>
                <a:latin typeface="Comic Sans MS"/>
              </a:rPr>
              <a:t>¿Qué es el autorretrato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1" descr="meninas.jpg"/>
          <p:cNvPicPr/>
          <p:nvPr/>
        </p:nvPicPr>
        <p:blipFill>
          <a:blip r:embed="rId2"/>
          <a:stretch/>
        </p:blipFill>
        <p:spPr>
          <a:xfrm>
            <a:off x="2971800" y="533520"/>
            <a:ext cx="317196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joann\Pictures\Microsoft Clip Organizer\j0441429.png"/>
          <p:cNvPicPr/>
          <p:nvPr/>
        </p:nvPicPr>
        <p:blipFill>
          <a:blip r:embed="rId3"/>
          <a:stretch/>
        </p:blipFill>
        <p:spPr>
          <a:xfrm>
            <a:off x="7772400" y="5791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utorretrato cubis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Autoretrato cubista.jpg"/>
          <p:cNvPicPr/>
          <p:nvPr/>
        </p:nvPicPr>
        <p:blipFill>
          <a:blip r:embed="rId1"/>
          <a:stretch/>
        </p:blipFill>
        <p:spPr>
          <a:xfrm>
            <a:off x="1143000" y="1752480"/>
            <a:ext cx="311616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715000" y="990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Salvador Dal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ular Callout 5"/>
          <p:cNvSpPr/>
          <p:nvPr/>
        </p:nvSpPr>
        <p:spPr>
          <a:xfrm>
            <a:off x="4876920" y="1752480"/>
            <a:ext cx="10666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617880" y="175248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n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687360" y="236232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ad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6675120" y="2971800"/>
            <a:ext cx="22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rre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ular Callout 9"/>
          <p:cNvSpPr/>
          <p:nvPr/>
        </p:nvSpPr>
        <p:spPr>
          <a:xfrm>
            <a:off x="4876920" y="4114800"/>
            <a:ext cx="15238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éne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715800" y="4114800"/>
            <a:ext cx="13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6746040" y="472428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trac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6648480" y="533412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r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l Greco - autorretra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El_greco.jpg"/>
          <p:cNvPicPr/>
          <p:nvPr/>
        </p:nvPicPr>
        <p:blipFill>
          <a:blip r:embed="rId1"/>
          <a:stretch/>
        </p:blipFill>
        <p:spPr>
          <a:xfrm>
            <a:off x="1066680" y="1828800"/>
            <a:ext cx="362592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5867280" y="9144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El Gre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ular Callout 8"/>
          <p:cNvSpPr/>
          <p:nvPr/>
        </p:nvSpPr>
        <p:spPr>
          <a:xfrm>
            <a:off x="5105520" y="1828800"/>
            <a:ext cx="10666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6617880" y="175248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n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6687360" y="236232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ad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6675120" y="2971800"/>
            <a:ext cx="22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rre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6710400" y="411480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ás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ular Callout 13"/>
          <p:cNvSpPr/>
          <p:nvPr/>
        </p:nvSpPr>
        <p:spPr>
          <a:xfrm>
            <a:off x="5029200" y="4114800"/>
            <a:ext cx="15238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éne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6735240" y="47242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utorretrato con colla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 espinas y colibr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Kahlo_Self-Portrait-with-Th.jpg"/>
          <p:cNvPicPr/>
          <p:nvPr/>
        </p:nvPicPr>
        <p:blipFill>
          <a:blip r:embed="rId1"/>
          <a:stretch/>
        </p:blipFill>
        <p:spPr>
          <a:xfrm>
            <a:off x="1066680" y="1762200"/>
            <a:ext cx="3429000" cy="44244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6172200" y="1066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Frida Kah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ular Callout 5"/>
          <p:cNvSpPr/>
          <p:nvPr/>
        </p:nvSpPr>
        <p:spPr>
          <a:xfrm>
            <a:off x="4876920" y="1752480"/>
            <a:ext cx="10666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617880" y="175248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n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6687360" y="236232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ad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675120" y="2971800"/>
            <a:ext cx="22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rre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ular Callout 9"/>
          <p:cNvSpPr/>
          <p:nvPr/>
        </p:nvSpPr>
        <p:spPr>
          <a:xfrm>
            <a:off x="4876920" y="4114800"/>
            <a:ext cx="15238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éne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6735240" y="419112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6648480" y="480060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r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dad / identific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¿Cuál es la diferencia ent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e46c0a"/>
                </a:solidFill>
                <a:latin typeface="Comic Sans MS"/>
              </a:rPr>
              <a:t>la identidad personal</a:t>
            </a:r>
            <a:r>
              <a:rPr b="0" lang="en-US" sz="4000" spc="-1" strike="noStrike">
                <a:solidFill>
                  <a:srgbClr val="f7964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e46c0a"/>
                </a:solidFill>
                <a:latin typeface="Comic Sans MS"/>
              </a:rPr>
              <a:t>la identificación socia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457200" y="403848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¿Tienes </a:t>
            </a:r>
            <a:r>
              <a:rPr b="0" lang="en-US" sz="4000" spc="-1" strike="noStrike">
                <a:solidFill>
                  <a:srgbClr val="e46c0a"/>
                </a:solidFill>
                <a:latin typeface="Comic Sans MS"/>
              </a:rPr>
              <a:t>una identidad persona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n-US" sz="4000" spc="-1" strike="noStrike">
                <a:solidFill>
                  <a:srgbClr val="f79646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53352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omic Sans MS"/>
              </a:rPr>
              <a:t>Tarea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rear un autorretrato vis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2:55:04Z</dcterms:created>
  <dc:creator>joann</dc:creator>
  <dc:description/>
  <dc:language>en-US</dc:language>
  <cp:lastModifiedBy>joann</cp:lastModifiedBy>
  <dcterms:modified xsi:type="dcterms:W3CDTF">2010-02-24T11:31:48Z</dcterms:modified>
  <cp:revision>58</cp:revision>
  <dc:subject/>
  <dc:title>Slide 1</dc:title>
</cp:coreProperties>
</file>